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1A7-300E-4499-9F78-9A23C61B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E06-DB37-4B23-ABF0-C7313F33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813-707F-4C38-AF2F-84844AB3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293-B929-4386-91E5-B803E383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3A3-FBEB-4481-9093-ECE18F1E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740-139E-4A43-9BE4-062B31E6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177-705B-41D1-B43F-28241372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EA4-63E7-41FD-BE90-D3EE6426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69C-C8F0-4F38-8665-2BFB9500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10E-DEF5-4465-8C45-2F54076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C5B-CEA3-4868-82B3-2D44D1F3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81E-76BB-414D-8E64-E1E9482E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8317-6E8C-4EE5-875F-8484BC1AF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i.dailymail.co.uk/i/pix/2008/11/26/article-1089560-029AA23D000005DC-472_306x438.jpg"/>
          <p:cNvPicPr/>
          <p:nvPr/>
        </p:nvPicPr>
        <p:blipFill>
          <a:blip r:embed="rId1"/>
          <a:stretch/>
        </p:blipFill>
        <p:spPr>
          <a:xfrm>
            <a:off x="2057400" y="380880"/>
            <a:ext cx="3981600" cy="5699160"/>
          </a:xfrm>
          <a:prstGeom prst="rect">
            <a:avLst/>
          </a:prstGeom>
          <a:ln w="0">
            <a:noFill/>
          </a:ln>
        </p:spPr>
      </p:pic>
      <p:sp>
        <p:nvSpPr>
          <p:cNvPr id="42" name="Line Callout 1 5"/>
          <p:cNvSpPr/>
          <p:nvPr/>
        </p:nvSpPr>
        <p:spPr>
          <a:xfrm>
            <a:off x="5943600" y="4950000"/>
            <a:ext cx="2209680" cy="61272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ve to use my power for 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Line Callout 1 6"/>
          <p:cNvSpPr/>
          <p:nvPr/>
        </p:nvSpPr>
        <p:spPr>
          <a:xfrm>
            <a:off x="5943600" y="3429000"/>
            <a:ext cx="2209680" cy="612720"/>
          </a:xfrm>
          <a:prstGeom prst="borderCallout1">
            <a:avLst>
              <a:gd name="adj1" fmla="val 18750"/>
              <a:gd name="adj2" fmla="val -8333"/>
              <a:gd name="adj3" fmla="val 121490"/>
              <a:gd name="adj4" fmla="val -777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ve it up 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vectorstock.com/i/composite/99,07/609907/ladybug-cartoon-vector.jpg"/>
          <p:cNvPicPr/>
          <p:nvPr/>
        </p:nvPicPr>
        <p:blipFill>
          <a:blip r:embed="rId1"/>
          <a:stretch/>
        </p:blipFill>
        <p:spPr>
          <a:xfrm>
            <a:off x="1828800" y="685800"/>
            <a:ext cx="5334120" cy="561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Live_it_up_ORIGINAL_Logo_Final_low_res.jpg"/>
          <p:cNvPicPr/>
          <p:nvPr/>
        </p:nvPicPr>
        <p:blipFill>
          <a:blip r:embed="rId2"/>
          <a:srcRect l="0" t="19813" r="0" b="15670"/>
          <a:stretch/>
        </p:blipFill>
        <p:spPr>
          <a:xfrm rot="2877000">
            <a:off x="4712040" y="1688400"/>
            <a:ext cx="2209680" cy="744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136680" y="480060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ve to love all bug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cloud.graphicleftovers.com/12009/1222647/cartoon-gorilla-waving.jpg"/>
          <p:cNvPicPr/>
          <p:nvPr/>
        </p:nvPicPr>
        <p:blipFill>
          <a:blip r:embed="rId1"/>
          <a:stretch/>
        </p:blipFill>
        <p:spPr>
          <a:xfrm>
            <a:off x="2514600" y="8380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Live_it_up_ORIGINAL_Logo_Final_low_res.jpg"/>
          <p:cNvPicPr/>
          <p:nvPr/>
        </p:nvPicPr>
        <p:blipFill>
          <a:blip r:embed="rId2"/>
          <a:srcRect l="0" t="19813" r="0" b="15670"/>
          <a:stretch/>
        </p:blipFill>
        <p:spPr>
          <a:xfrm rot="19390800">
            <a:off x="2060640" y="1349280"/>
            <a:ext cx="2209680" cy="7444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3" descr=""/>
          <p:cNvPicPr/>
          <p:nvPr/>
        </p:nvPicPr>
        <p:blipFill>
          <a:blip r:embed="rId3"/>
          <a:stretch/>
        </p:blipFill>
        <p:spPr>
          <a:xfrm>
            <a:off x="5022720" y="1517760"/>
            <a:ext cx="31402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20:21:11Z</dcterms:created>
  <dc:creator>Home</dc:creator>
  <dc:description/>
  <dc:language>en-US</dc:language>
  <cp:lastModifiedBy>zeze</cp:lastModifiedBy>
  <dcterms:modified xsi:type="dcterms:W3CDTF">2012-03-12T05:30:42Z</dcterms:modified>
  <cp:revision>1</cp:revision>
  <dc:subject/>
  <dc:title>Slide 1</dc:title>
</cp:coreProperties>
</file>